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94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94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94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50480" y="118080"/>
            <a:ext cx="2213640" cy="255960"/>
            <a:chOff x="150480" y="118080"/>
            <a:chExt cx="2213640" cy="255960"/>
          </a:xfrm>
        </p:grpSpPr>
        <p:sp>
          <p:nvSpPr>
            <p:cNvPr id="3" name=""/>
            <p:cNvSpPr/>
            <p:nvPr/>
          </p:nvSpPr>
          <p:spPr>
            <a:xfrm rot="5273400">
              <a:off x="1342440" y="-696240"/>
              <a:ext cx="170280" cy="1868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5273400">
              <a:off x="792720" y="-221760"/>
              <a:ext cx="118800" cy="1035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5273400">
              <a:off x="610560" y="-222120"/>
              <a:ext cx="118800" cy="103536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6170040" y="6434640"/>
            <a:ext cx="2746800" cy="293760"/>
            <a:chOff x="6170040" y="6434640"/>
            <a:chExt cx="2746800" cy="293760"/>
          </a:xfrm>
        </p:grpSpPr>
        <p:sp>
          <p:nvSpPr>
            <p:cNvPr id="7" name=""/>
            <p:cNvSpPr/>
            <p:nvPr/>
          </p:nvSpPr>
          <p:spPr>
            <a:xfrm rot="5273400">
              <a:off x="7659360" y="5413680"/>
              <a:ext cx="191160" cy="2317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5273400">
              <a:off x="6974280" y="5995800"/>
              <a:ext cx="133560" cy="1284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5273400">
              <a:off x="6747480" y="5995800"/>
              <a:ext cx="133560" cy="128448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304920" y="1387440"/>
            <a:ext cx="8380440" cy="173160"/>
            <a:chOff x="304920" y="1387440"/>
            <a:chExt cx="8380440" cy="173160"/>
          </a:xfrm>
        </p:grpSpPr>
        <p:sp>
          <p:nvSpPr>
            <p:cNvPr id="11" name=""/>
            <p:cNvSpPr/>
            <p:nvPr/>
          </p:nvSpPr>
          <p:spPr>
            <a:xfrm>
              <a:off x="304920" y="1387440"/>
              <a:ext cx="8380440" cy="13500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4920" y="1560600"/>
              <a:ext cx="4267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04920" y="1509840"/>
              <a:ext cx="6843600" cy="14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170040" y="6434640"/>
            <a:ext cx="2746800" cy="293760"/>
            <a:chOff x="6170040" y="6434640"/>
            <a:chExt cx="2746800" cy="293760"/>
          </a:xfrm>
        </p:grpSpPr>
        <p:sp>
          <p:nvSpPr>
            <p:cNvPr id="52" name=""/>
            <p:cNvSpPr/>
            <p:nvPr/>
          </p:nvSpPr>
          <p:spPr>
            <a:xfrm rot="5273400">
              <a:off x="7659360" y="5413680"/>
              <a:ext cx="191160" cy="2317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5273400">
              <a:off x="6974280" y="5995800"/>
              <a:ext cx="133560" cy="1284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273400">
              <a:off x="6747480" y="5995800"/>
              <a:ext cx="133560" cy="128448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50480" y="118080"/>
            <a:ext cx="2213640" cy="255960"/>
            <a:chOff x="150480" y="118080"/>
            <a:chExt cx="2213640" cy="255960"/>
          </a:xfrm>
        </p:grpSpPr>
        <p:sp>
          <p:nvSpPr>
            <p:cNvPr id="56" name=""/>
            <p:cNvSpPr/>
            <p:nvPr/>
          </p:nvSpPr>
          <p:spPr>
            <a:xfrm rot="5273400">
              <a:off x="1342440" y="-696240"/>
              <a:ext cx="170280" cy="1868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273400">
              <a:off x="792720" y="-221760"/>
              <a:ext cx="118800" cy="1035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5273400">
              <a:off x="610560" y="-222120"/>
              <a:ext cx="118800" cy="103536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0" y="3200400"/>
            <a:ext cx="9143640" cy="173160"/>
            <a:chOff x="0" y="3200400"/>
            <a:chExt cx="9143640" cy="173160"/>
          </a:xfrm>
        </p:grpSpPr>
        <p:sp>
          <p:nvSpPr>
            <p:cNvPr id="60" name=""/>
            <p:cNvSpPr/>
            <p:nvPr/>
          </p:nvSpPr>
          <p:spPr>
            <a:xfrm>
              <a:off x="0" y="3200400"/>
              <a:ext cx="9143640" cy="13500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3373560"/>
              <a:ext cx="4655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322800"/>
              <a:ext cx="7466760" cy="14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619280" y="1700280"/>
            <a:ext cx="6095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66ff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мпьютерные сети</a:t>
            </a:r>
            <a:endParaRPr b="0" lang="en-US" sz="2000" spc="1" strike="noStrike">
              <a:ln w="19080">
                <a:solidFill>
                  <a:srgbClr val="66ff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10666" r="88006" b="74668"/>
          <a:stretch/>
        </p:blipFill>
        <p:spPr>
          <a:xfrm>
            <a:off x="324000" y="4724280"/>
            <a:ext cx="1904760" cy="1746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rcRect l="11970" t="60001" r="75455" b="26668"/>
          <a:stretch/>
        </p:blipFill>
        <p:spPr>
          <a:xfrm>
            <a:off x="6732720" y="4508640"/>
            <a:ext cx="1981080" cy="1650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rcRect l="0" t="24003" r="88006" b="64002"/>
          <a:stretch/>
        </p:blipFill>
        <p:spPr>
          <a:xfrm>
            <a:off x="250920" y="18900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rcRect l="0" t="34669" r="88006" b="53336"/>
          <a:stretch/>
        </p:blipFill>
        <p:spPr>
          <a:xfrm>
            <a:off x="6443640" y="189000"/>
            <a:ext cx="2057400" cy="1542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Классификация вычислительных сетей по территориальному признаку.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42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Глобальная сеть Interne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(в ней реализована информационная служба World Wide Web (WWW) -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«всемирная паутина»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). Англоязычное название -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WAN (Wide Area Network)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о сеть сетей со своей технологией. В Internet существует понятие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интрасете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(Intranet) - корпоративных сетей в рамках Internet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истема адресации в Inter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53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того чтобы информация передавалась между компьютерами независимо от используемых линий связи, типа ЭВМ и программного обеспечения, разработаны специальные протоколы передачи информации. Они работают по принципу разбивки данных на блоки определенного размера (пакеты), которые последовательно отсылаются адресату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Интернете используются два основных протокола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Межсетевой протокол (Iпternet Protoco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- IP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разделяет передаваемые данные на отдельные пакеты и снабжает заголовком с указанием адреса получателя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ротокол управления передачей (Transmission Contro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Protocol - ТСР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твечает за правильную доставку такого пакета, т.е.  разбиение файлов на IP-пакеты в процессе передачи и сборку файлов в процессе получения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кольку оба эти протокола представляют собой единое целое, то говорят о протоколе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ТСР/IР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Этот протокол является своеобразным языком, без которого невозможно взаимопонимание отдельных участников различных программ, компьютеров и сетей, входящих в глобальную сеть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569440" cy="485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менный адрес, который понятен человеку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IР-адрес, который понятен компьютеру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ример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дрес   www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akon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z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 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м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сурс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World Wide Web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akon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название сайта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z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Казахстан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системе адресов Internet приняты домены, представленные географическими регионами. Они имеют имя, состоящее из 2-х букв: Франция – fr, Канада – ca, Россия – ru. Существуют и домены, разделённые по тематическим признакам, они имеют 3-буквенное сокращение: учебные заведения – edu, правительственные учреждения – gov, коммерческие – com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476280"/>
            <a:ext cx="8713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Cyr"/>
              </a:rPr>
              <a:t>Идентификация отдельных компьютеров и их пользователей осуществляется при помощи двух адресов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Классификация вычислительных сетей по топологии.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176720" cy="2303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1622880"/>
            <a:ext cx="90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Топология сете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геометрическая схема соединений узлов се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292720" y="1989000"/>
            <a:ext cx="3517920" cy="2424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411280" y="4284720"/>
            <a:ext cx="3733920" cy="2573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Cyr"/>
              </a:rPr>
              <a:t>Типичные топологии для ЛВ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3933720"/>
            <a:ext cx="86104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анные, передаваемые любой станцией, одновременно становятся доступными для всех других станций, подключенных к этой же среде передачи данных (последнее свойство называют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широковещательностью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. Принимает сообщение только та станция , которой оно предназначено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04920" y="1828800"/>
          <a:ext cx="4190760" cy="182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41907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4724280" y="1628640"/>
            <a:ext cx="44197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Шинна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bus)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- локальная сеть, в которой связь между любыми двумя станциями устанавливается через один общий пу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Cyr"/>
              </a:rPr>
              <a:t>Типичные топологии для ЛВ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4005360"/>
            <a:ext cx="8520120" cy="26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Центральный узел ретранслирует, переключает и маршрутизирует информационные потоки. Такая топология упрощает взаимодействие узлов ЛВС и позволяет использовать более простые сетевые адаптеры. Но работоспособность ЛВС зависит от работоспособности центрального узла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91120" y="1752480"/>
            <a:ext cx="495288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Звездообразная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(star)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имеется центральный узел, от которого расходятся линии передачи данных к каждому из остальных узл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80880" y="1676520"/>
          <a:ext cx="3581640" cy="239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3581640" cy="23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Cyr"/>
              </a:rPr>
              <a:t>Типичные топологии для ЛВ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9280" y="4508280"/>
            <a:ext cx="8686800" cy="175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анные, проходя по кольцу, поочередно становятся доступными всем узлам сети, каждый промежуточный узел отбирает сообщение предназначенное для этого узла и ретранслирует остальные полученные сообщения следующему узлу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40360" y="1752480"/>
            <a:ext cx="46987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ольцева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ring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 - узлы связаны замкнутой линией передачи данных (к каждому узлу подходят только две линии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24000" y="1628640"/>
          <a:ext cx="3600360" cy="280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28640"/>
                    <a:ext cx="360036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659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Классификация вычислительных сетей по способу управления .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40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способу управления все сети делятся на сети с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децентрализованным (одноранговая сеть) , централизованным (сеть клиент-сервер) управлением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управлении особо выделяют три основных типа компонентов сети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ерверы,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лиенты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редства связи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Классификация вычислительных сетей по способу управления .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правление локальной сетью осуществляется на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сервер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либо специально для этого используемом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клиенте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который называют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консолью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ерверы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предоставляют ресурсы, необходимые многим пользователям (Базы Данных, файлы, память)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Клиенты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используют эти ресурсы и предоставляют удобные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интерфейсы пользователя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Классификация вычислительных сетей по способу управления .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675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дноранговые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сети 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 них все узлы равноправны; поскольку в общем случае под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клиентом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онимается объект (устройство или программа), запрашивающий некоторые услуги, а под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сервером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- объект, предоставляющий эти услуги, то каждый узел в одноранговых сетях может выполнять функции и клиента, и сервера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План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значение компьютерных сете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лассификация вычислительных сете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лассификация по территориальному признаку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лассификация вычислительных сетей по топологи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лассификация вычислительных сетей по способу управлен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редства передач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560" y="40428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Классификация вычислительных сетей по способу управления .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859280" y="1599840"/>
            <a:ext cx="4284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Клиент/сервер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в них выделяется один или несколько узлов (их название -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сервер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, выполняющих в сети управляющие или специальные обслуживающие функции, а остальные узлы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клиент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являются терминальными, в них работают пользователи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0" y="1557360"/>
          <a:ext cx="4724280" cy="530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472428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редства передач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496000" cy="477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7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тобы обеспечить передачу информации из ЭВМ в коммуникационную среду, необходимо согласовать сигналы внутреннего интерфейса ЭВМ с параметрами сигналов, передаваемых по каналам связи. Технические устройства, выполняющие функции сопряжения ЭВМ с каналами связи, называются адаптерами или сетевыми адаптерами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изическая передающая среда представлена в ЛВС тремя типами кабелей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итая пара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аксиальный кабель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птоволоконный кабель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итая пара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723960" indent="-36504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витая пар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стоит из двух изолированных проводов, свитых между собо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23960" indent="-365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ручивание проводов уменьшает влияние внешних электромагнитных полей на передаваемые сигнал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самый дешёвый тип кабеля, скорость передачи  информации 0,25–1 Мби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се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995280" y="4580280"/>
            <a:ext cx="3881160" cy="864360"/>
            <a:chOff x="3995280" y="4580280"/>
            <a:chExt cx="3881160" cy="864360"/>
          </a:xfrm>
        </p:grpSpPr>
        <p:sp>
          <p:nvSpPr>
            <p:cNvPr id="200" name=""/>
            <p:cNvSpPr/>
            <p:nvPr/>
          </p:nvSpPr>
          <p:spPr>
            <a:xfrm>
              <a:off x="6605280" y="4797360"/>
              <a:ext cx="676800" cy="4266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3995280" y="4581360"/>
              <a:ext cx="2609640" cy="861840"/>
              <a:chOff x="3995280" y="4581360"/>
              <a:chExt cx="2609640" cy="861840"/>
            </a:xfrm>
          </p:grpSpPr>
          <p:sp>
            <p:nvSpPr>
              <p:cNvPr id="202" name=""/>
              <p:cNvSpPr/>
              <p:nvPr/>
            </p:nvSpPr>
            <p:spPr>
              <a:xfrm>
                <a:off x="5928120" y="4797000"/>
                <a:ext cx="676800" cy="42624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3995280" y="4581360"/>
                <a:ext cx="1920600" cy="861840"/>
                <a:chOff x="3995280" y="4581360"/>
                <a:chExt cx="1920600" cy="86184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4572720" y="4797000"/>
                  <a:ext cx="676080" cy="42588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239080" y="4797000"/>
                  <a:ext cx="676800" cy="42588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995280" y="4581360"/>
                  <a:ext cx="578880" cy="861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56142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561425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7" name=""/>
            <p:cNvSpPr/>
            <p:nvPr/>
          </p:nvSpPr>
          <p:spPr>
            <a:xfrm flipV="1" rot="16210200">
              <a:off x="7154280" y="4722120"/>
              <a:ext cx="862560" cy="57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303" y="8285"/>
                  </a:moveTo>
                  <a:arcTo wR="10800" hR="10800" stAng="-808124" swAng="125995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303" y="8285"/>
                  </a:moveTo>
                  <a:arcTo wR="10800" hR="10800" stAng="-808124" swAng="12599507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900000" y="4365720"/>
            <a:ext cx="2016360" cy="1152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оаксиальный кабель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4920" y="1980720"/>
            <a:ext cx="80629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622440" indent="-26352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коаксиальный кабел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личается более высокой механической прочностью,  помехозащищённостью   и    обеспечивает   скорость   передачи    информации 10–50  Мби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сек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127320" y="4364640"/>
            <a:ext cx="5855400" cy="1921320"/>
            <a:chOff x="3127320" y="4364640"/>
            <a:chExt cx="5855400" cy="1921320"/>
          </a:xfrm>
        </p:grpSpPr>
        <p:sp>
          <p:nvSpPr>
            <p:cNvPr id="212" name=""/>
            <p:cNvSpPr/>
            <p:nvPr/>
          </p:nvSpPr>
          <p:spPr>
            <a:xfrm>
              <a:off x="6255720" y="5331600"/>
              <a:ext cx="235800" cy="6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47720" y="5978880"/>
              <a:ext cx="95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Изоляция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3127320" y="4887720"/>
              <a:ext cx="3914280" cy="1397520"/>
              <a:chOff x="3127320" y="4887720"/>
              <a:chExt cx="3914280" cy="139752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054320" y="4887720"/>
                <a:ext cx="2987280" cy="534240"/>
                <a:chOff x="4054320" y="4887720"/>
                <a:chExt cx="2987280" cy="5342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4054320" y="4887720"/>
                  <a:ext cx="1572120" cy="53424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626440" y="4976280"/>
                  <a:ext cx="471600" cy="356400"/>
                </a:xfrm>
                <a:prstGeom prst="rect">
                  <a:avLst/>
                </a:prstGeom>
                <a:solidFill>
                  <a:srgbClr val="969696">
                    <a:alpha val="50000"/>
                  </a:srgbClr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098400" y="5065560"/>
                  <a:ext cx="393120" cy="17784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491520" y="5154840"/>
                  <a:ext cx="55008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 flipH="1">
                <a:off x="4289760" y="5511240"/>
                <a:ext cx="392760" cy="534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127320" y="5978160"/>
                <a:ext cx="1706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Times New Roman"/>
                  </a:rPr>
                  <a:t>Защитное покрытие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 flipV="1">
              <a:off x="5784120" y="4529160"/>
              <a:ext cx="314640" cy="356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885000" y="4712400"/>
              <a:ext cx="392760" cy="267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02000" y="4364640"/>
              <a:ext cx="198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Внутренний проводник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55640" y="3933720"/>
            <a:ext cx="3095640" cy="719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птоволоконный кабель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3640" y="1980720"/>
            <a:ext cx="8134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533520" indent="-354240"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оптоволоконный кабел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деальная передающая среда, он не подвержен действию электромагнитных полей, скорость передачи информации более 50 Мбит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56000" y="4941720"/>
            <a:ext cx="995400" cy="45720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56080" y="5118120"/>
            <a:ext cx="381240" cy="1522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37320" y="5194440"/>
            <a:ext cx="53316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065120" y="5499000"/>
            <a:ext cx="38124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11680" y="5877360"/>
            <a:ext cx="17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Защитное покрыти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84680" y="4737240"/>
            <a:ext cx="30492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777920" y="4431240"/>
            <a:ext cx="185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Стеклянное покрыти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194520" y="4889160"/>
            <a:ext cx="3808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651720" y="4615200"/>
            <a:ext cx="170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Оптическое волокн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39640" y="3933720"/>
            <a:ext cx="1800360" cy="979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Компьютерная (вычислительная, информационная) сеть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4978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овременное  производство требует высоких скоростей обработки информации, удобных форм её хранения и передачи. Для этих целей создаются компьютерные сети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Компьютерная сеть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это совокупность компьютеров и периферийных устройств ввода-вывода информации (принтеры, плоттеры, сканеры) - узлов сети, осуществляющих функции генерации, преобразования, хранения и потребления информации, объединенных средствами передачи данных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47280" y="404640"/>
            <a:ext cx="6324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Классификация вычислительных сетей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072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 территориальному признаку,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 топологии (архитектуре сети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 способу управления сетью,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 способу организации передачи данных,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 возможности одновременного предоставления различных услуг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92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Классификация по территориальному признаку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Локальные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Корпоративные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Региональные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Глобальные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16360" y="2781360"/>
            <a:ext cx="863640" cy="1295280"/>
          </a:xfrm>
          <a:custGeom>
            <a:avLst/>
            <a:gdLst>
              <a:gd name="textAreaLeft" fmla="*/ 0 w 863640"/>
              <a:gd name="textAreaRight" fmla="*/ 311760 w 86364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278136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Cyr"/>
              </a:rPr>
              <a:t>Часто объединяют в одну категорию, тогда получается 3 вида сет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Иерархия компьютерных сетей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0" y="2362320"/>
            <a:ext cx="2608200" cy="2133000"/>
            <a:chOff x="0" y="2362320"/>
            <a:chExt cx="2608200" cy="2133000"/>
          </a:xfrm>
        </p:grpSpPr>
        <p:sp>
          <p:nvSpPr>
            <p:cNvPr id="117" name=""/>
            <p:cNvSpPr/>
            <p:nvPr/>
          </p:nvSpPr>
          <p:spPr>
            <a:xfrm>
              <a:off x="0" y="2362320"/>
              <a:ext cx="2608200" cy="21330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4440" y="2747880"/>
              <a:ext cx="1910520" cy="1361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лобальна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ет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263680" y="2085840"/>
            <a:ext cx="2333880" cy="946440"/>
            <a:chOff x="2263680" y="2085840"/>
            <a:chExt cx="2333880" cy="946440"/>
          </a:xfrm>
        </p:grpSpPr>
        <p:sp>
          <p:nvSpPr>
            <p:cNvPr id="120" name=""/>
            <p:cNvSpPr/>
            <p:nvPr/>
          </p:nvSpPr>
          <p:spPr>
            <a:xfrm>
              <a:off x="2263680" y="2085840"/>
              <a:ext cx="2333880" cy="94644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63200" y="2256840"/>
              <a:ext cx="1709640" cy="6040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Региональная сеть 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7624800" y="1544760"/>
            <a:ext cx="1272960" cy="591840"/>
            <a:chOff x="7624800" y="1544760"/>
            <a:chExt cx="1272960" cy="591840"/>
          </a:xfrm>
        </p:grpSpPr>
        <p:sp>
          <p:nvSpPr>
            <p:cNvPr id="123" name=""/>
            <p:cNvSpPr/>
            <p:nvPr/>
          </p:nvSpPr>
          <p:spPr>
            <a:xfrm>
              <a:off x="7624800" y="1544760"/>
              <a:ext cx="1272960" cy="591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87880" y="1651680"/>
              <a:ext cx="932400" cy="377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ЛВ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209680" y="4495680"/>
            <a:ext cx="2266920" cy="946440"/>
            <a:chOff x="2209680" y="4495680"/>
            <a:chExt cx="2266920" cy="946440"/>
          </a:xfrm>
        </p:grpSpPr>
        <p:sp>
          <p:nvSpPr>
            <p:cNvPr id="126" name=""/>
            <p:cNvSpPr/>
            <p:nvPr/>
          </p:nvSpPr>
          <p:spPr>
            <a:xfrm>
              <a:off x="2209680" y="4495680"/>
              <a:ext cx="2266920" cy="94644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00560" y="4666680"/>
              <a:ext cx="1660680" cy="6040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Региональная сеть 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7624800" y="2244600"/>
            <a:ext cx="1272960" cy="592200"/>
            <a:chOff x="7624800" y="2244600"/>
            <a:chExt cx="1272960" cy="592200"/>
          </a:xfrm>
        </p:grpSpPr>
        <p:sp>
          <p:nvSpPr>
            <p:cNvPr id="129" name=""/>
            <p:cNvSpPr/>
            <p:nvPr/>
          </p:nvSpPr>
          <p:spPr>
            <a:xfrm>
              <a:off x="7624800" y="2244600"/>
              <a:ext cx="1272960" cy="592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87880" y="2351520"/>
              <a:ext cx="932400" cy="3780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ЛВ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624800" y="2887560"/>
            <a:ext cx="1272960" cy="592200"/>
            <a:chOff x="7624800" y="2887560"/>
            <a:chExt cx="1272960" cy="592200"/>
          </a:xfrm>
        </p:grpSpPr>
        <p:sp>
          <p:nvSpPr>
            <p:cNvPr id="132" name=""/>
            <p:cNvSpPr/>
            <p:nvPr/>
          </p:nvSpPr>
          <p:spPr>
            <a:xfrm>
              <a:off x="7624800" y="2887560"/>
              <a:ext cx="1272960" cy="592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787880" y="2994480"/>
              <a:ext cx="932400" cy="3780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ЛВ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343400" y="3782880"/>
            <a:ext cx="1273320" cy="592200"/>
            <a:chOff x="4343400" y="3782880"/>
            <a:chExt cx="1273320" cy="592200"/>
          </a:xfrm>
        </p:grpSpPr>
        <p:sp>
          <p:nvSpPr>
            <p:cNvPr id="135" name=""/>
            <p:cNvSpPr/>
            <p:nvPr/>
          </p:nvSpPr>
          <p:spPr>
            <a:xfrm>
              <a:off x="4343400" y="3782880"/>
              <a:ext cx="1273320" cy="592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06840" y="3889800"/>
              <a:ext cx="932760" cy="3780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ЛВ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216320" y="5656320"/>
            <a:ext cx="1273320" cy="592200"/>
            <a:chOff x="4216320" y="5656320"/>
            <a:chExt cx="1273320" cy="592200"/>
          </a:xfrm>
        </p:grpSpPr>
        <p:sp>
          <p:nvSpPr>
            <p:cNvPr id="138" name=""/>
            <p:cNvSpPr/>
            <p:nvPr/>
          </p:nvSpPr>
          <p:spPr>
            <a:xfrm>
              <a:off x="4216320" y="5656320"/>
              <a:ext cx="1273320" cy="592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79760" y="5763240"/>
              <a:ext cx="932760" cy="3780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ЛВ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366920" y="5548320"/>
            <a:ext cx="1272960" cy="592200"/>
            <a:chOff x="1366920" y="5548320"/>
            <a:chExt cx="1272960" cy="592200"/>
          </a:xfrm>
        </p:grpSpPr>
        <p:sp>
          <p:nvSpPr>
            <p:cNvPr id="141" name=""/>
            <p:cNvSpPr/>
            <p:nvPr/>
          </p:nvSpPr>
          <p:spPr>
            <a:xfrm>
              <a:off x="1366920" y="5548320"/>
              <a:ext cx="1272960" cy="592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30000" y="5655240"/>
              <a:ext cx="932400" cy="3780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ЛВ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4908600" y="2104920"/>
            <a:ext cx="1865160" cy="946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29200" y="2286000"/>
            <a:ext cx="16686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рпоративная сеть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90920" y="3031920"/>
            <a:ext cx="569880" cy="244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00440" y="2546280"/>
            <a:ext cx="3114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74920" y="3890880"/>
            <a:ext cx="901800" cy="604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466720" y="5348160"/>
            <a:ext cx="176040" cy="308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64120" y="5270400"/>
            <a:ext cx="314280" cy="492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45040" y="2943360"/>
            <a:ext cx="361800" cy="947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07360" y="1835280"/>
            <a:ext cx="217440" cy="1380960"/>
          </a:xfrm>
          <a:custGeom>
            <a:avLst/>
            <a:gdLst>
              <a:gd name="textAreaLeft" fmla="*/ 138960 w 217440"/>
              <a:gd name="textAreaRight" fmla="*/ 217800 w 217440"/>
              <a:gd name="textAreaTop" fmla="*/ 36000 h 1380960"/>
              <a:gd name="textAreaBottom" fmla="*/ 1344960 h 138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03"/>
                </a:lnTo>
                <a:cubicBezTo>
                  <a:pt x="10800" y="9703"/>
                  <a:pt x="5400" y="10603"/>
                  <a:pt x="0" y="10603"/>
                </a:cubicBezTo>
                <a:cubicBezTo>
                  <a:pt x="5400" y="10603"/>
                  <a:pt x="10800" y="11503"/>
                  <a:pt x="10800" y="1240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97800" y="2514600"/>
            <a:ext cx="620640" cy="17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Классификация вычислительных сетей по территориальному признаку.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280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 Cyr"/>
              </a:rPr>
              <a:t>Локальные</a:t>
            </a:r>
            <a:r>
              <a:rPr b="1" lang="ru-RU" sz="3200" spc="-1" strike="noStrike">
                <a:solidFill>
                  <a:srgbClr val="ff3300"/>
                </a:solidFill>
                <a:latin typeface="Times New Roman Cyr"/>
              </a:rPr>
              <a:t> (ЛВС)</a:t>
            </a:r>
            <a:r>
              <a:rPr b="0" lang="ru-RU" sz="3200" spc="-1" strike="noStrike">
                <a:solidFill>
                  <a:srgbClr val="ffffff"/>
                </a:solidFill>
                <a:latin typeface="Times New Roman Cyr"/>
              </a:rPr>
              <a:t> - охватывающие ограниченную территорию (обычно в пределах удаленности станций не более чем на несколько десятков или сотен метров друг от друга, реже на 1...2 км)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 Cyr"/>
              </a:rPr>
              <a:t>Локальные сети обозначают </a:t>
            </a:r>
            <a:r>
              <a:rPr b="1" lang="ru-RU" sz="3200" spc="-1" strike="noStrike">
                <a:solidFill>
                  <a:srgbClr val="ffffff"/>
                </a:solidFill>
                <a:latin typeface="Times New Roman Cyr"/>
              </a:rPr>
              <a:t>LAN (Local Area Netwo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rk);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Классификация вычислительных сетей по территориальному признаку.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134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 Cyr"/>
              </a:rPr>
              <a:t>Корпоративные сети</a:t>
            </a:r>
            <a:r>
              <a:rPr b="0" i="1" lang="en-US" sz="3200" spc="-1" strike="noStrike">
                <a:solidFill>
                  <a:srgbClr val="ff3300"/>
                </a:solidFill>
                <a:latin typeface="Times New Roman Cyr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imes New Roman Cyr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imes New Roman Cyr"/>
              </a:rPr>
              <a:t>масштаба предприятия) - совокупность связанных между собой ЛВС, охватывающих территорию, на которой размещено одно предприятие или учреждение в одном или нескольких близко расположенных зданиях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Классификация вычислительных сетей по территориальному признаку.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 Cyr"/>
              </a:rPr>
              <a:t>Территориальные</a:t>
            </a:r>
            <a:r>
              <a:rPr b="1" lang="en-US" sz="3600" spc="-1" strike="noStrike">
                <a:solidFill>
                  <a:srgbClr val="ff3300"/>
                </a:solidFill>
                <a:latin typeface="Times New Roman Cyr"/>
              </a:rPr>
              <a:t> (региональные)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 Cyr"/>
              </a:rPr>
              <a:t>сети</a:t>
            </a:r>
            <a:r>
              <a:rPr b="0" lang="en-US" sz="3600" spc="-1" strike="noStrike">
                <a:solidFill>
                  <a:srgbClr val="ffffff"/>
                </a:solidFill>
                <a:latin typeface="Times New Roman Cyr"/>
              </a:rPr>
              <a:t> - охватывают значительное географическое пространство.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0T03:49:40Z</dcterms:created>
  <dc:creator>Петрова И.Ю.</dc:creator>
  <dc:description/>
  <dc:language>en-US</dc:language>
  <cp:lastModifiedBy>Асель</cp:lastModifiedBy>
  <dcterms:modified xsi:type="dcterms:W3CDTF">2011-11-27T20:38:59Z</dcterms:modified>
  <cp:revision>15</cp:revision>
  <dc:subject/>
  <dc:title>Вычислительные сети</dc:title>
</cp:coreProperties>
</file>